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50009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28004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28004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28004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28004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12760" y="239760"/>
            <a:ext cx="1433520" cy="1666800"/>
            <a:chOff x="212760" y="239760"/>
            <a:chExt cx="1433520" cy="1666800"/>
          </a:xfrm>
        </p:grpSpPr>
        <p:grpSp>
          <p:nvGrpSpPr>
            <p:cNvPr id="3" name=""/>
            <p:cNvGrpSpPr/>
            <p:nvPr/>
          </p:nvGrpSpPr>
          <p:grpSpPr>
            <a:xfrm>
              <a:off x="212760" y="304920"/>
              <a:ext cx="1170000" cy="1601640"/>
              <a:chOff x="212760" y="304920"/>
              <a:chExt cx="1170000" cy="1601640"/>
            </a:xfrm>
          </p:grpSpPr>
          <p:sp>
            <p:nvSpPr>
              <p:cNvPr id="4" name=""/>
              <p:cNvSpPr/>
              <p:nvPr/>
            </p:nvSpPr>
            <p:spPr>
              <a:xfrm>
                <a:off x="322200" y="460440"/>
                <a:ext cx="95112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40043"/>
                  </a:gs>
                  <a:gs pos="100000">
                    <a:srgbClr val="7b00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8004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97040" y="30492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0" y="101"/>
                    </a:moveTo>
                    <a:lnTo>
                      <a:pt x="0" y="0"/>
                    </a:lnTo>
                    <a:lnTo>
                      <a:pt x="368" y="504"/>
                    </a:lnTo>
                    <a:lnTo>
                      <a:pt x="294" y="504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80049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2760" y="30492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368" y="0"/>
                    </a:moveTo>
                    <a:lnTo>
                      <a:pt x="368" y="101"/>
                    </a:lnTo>
                    <a:lnTo>
                      <a:pt x="74" y="504"/>
                    </a:lnTo>
                    <a:lnTo>
                      <a:pt x="0" y="504"/>
                    </a:lnTo>
                    <a:lnTo>
                      <a:pt x="368" y="0"/>
                    </a:lnTo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80049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10484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294" y="0"/>
                    </a:moveTo>
                    <a:lnTo>
                      <a:pt x="368" y="0"/>
                    </a:lnTo>
                    <a:lnTo>
                      <a:pt x="0" y="504"/>
                    </a:lnTo>
                    <a:lnTo>
                      <a:pt x="0" y="403"/>
                    </a:lnTo>
                    <a:lnTo>
                      <a:pt x="294" y="0"/>
                    </a:lnTo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80049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12760" y="110484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74" y="0"/>
                    </a:moveTo>
                    <a:lnTo>
                      <a:pt x="368" y="403"/>
                    </a:lnTo>
                    <a:lnTo>
                      <a:pt x="368" y="504"/>
                    </a:lnTo>
                    <a:lnTo>
                      <a:pt x="0" y="0"/>
                    </a:lnTo>
                    <a:lnTo>
                      <a:pt x="74" y="0"/>
                    </a:lnTo>
                  </a:path>
                </a:pathLst>
              </a:custGeom>
              <a:solidFill>
                <a:srgbClr val="d4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80049"/>
                  </a:solidFill>
                  <a:latin typeface="Arial"/>
                </a:endParaRPr>
              </a:p>
            </p:txBody>
          </p:sp>
        </p:grpSp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488880" y="239760"/>
              <a:ext cx="1157400" cy="1050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ardiorespiratory Adaptations to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9436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ardiorespiratory Adaptations From An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Small increase in cardiorespiratory enduranc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Small increase in VO2 Max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Small increases in Stroke Volum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76800" y="3348000"/>
            <a:ext cx="261000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ardiorespiratory Adaptations From Resistance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Small increase in left ventricle siz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-2916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resting heart rat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-2916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submaximal heart rat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-2916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resting blood pressure is greater than from endurance training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1600" indent="-2916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Resistance training has a positive effect on aerobic endurance but aerobic endurance has a negative effect on strength, speed and power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31440" indent="-2426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muscular strength is decreased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31440" indent="-2426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reaction and movement times are decreased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31440" indent="-2426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agility and neuromuscular coordination are decreased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31440" indent="-2426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concentration and alterness are decreased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Factors Affecting the Adaptation to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Heredity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accounts for between 25% and 50% of the variance in VO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Max values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Age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-Related decreases in VO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Max might partly result from an age-related decrease in activity levels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Gender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plays a small role (10% difference) in the VO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Max values of male and female endurance athletes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There will be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RESPONDERS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(large improvement) and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NONRESPONDERS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(little improvement) among groups of people who experience identical training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8440" indent="-2984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The greater the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Specificity of Training 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for a given sport or activity, the greater the improvement in performance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Applications to Exercise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Breathe Right nasal strips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“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head up” during recovery 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O</a:t>
            </a:r>
            <a:r>
              <a:rPr b="0" lang="en-US" sz="1600" spc="-1" strike="noStrike">
                <a:solidFill>
                  <a:srgbClr val="280049"/>
                </a:solidFill>
                <a:latin typeface="Book Antiqua"/>
              </a:rPr>
              <a:t>2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 on the sidelines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active recovery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stretching before and after intense exercis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smokers bewar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stitch in the sid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second wind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resist the valsalva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01680" indent="-301680">
              <a:spcBef>
                <a:spcPts val="499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exercise increases the quality of life more than the quantity of lif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724280" y="2209680"/>
          <a:ext cx="380052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09680"/>
                    <a:ext cx="380052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ardiovascular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cardiorespiratory enduranc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-31212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muscular enduranc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-31212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VO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at rest and submaximal exercis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-31212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VO</a:t>
            </a:r>
            <a:r>
              <a:rPr b="0" lang="en-US" sz="1800" spc="-1" strike="noStrike">
                <a:solidFill>
                  <a:srgbClr val="b50069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 Max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-31212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heart weight, volume, and chamber size 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76080" indent="-2599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left ventricle wall thickness “</a:t>
            </a:r>
            <a:r>
              <a:rPr b="0" lang="en-US" sz="2000" spc="-1" strike="noStrike">
                <a:solidFill>
                  <a:srgbClr val="b50069"/>
                </a:solidFill>
                <a:latin typeface="Book Antiqua"/>
              </a:rPr>
              <a:t>athletes heart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”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76080" indent="-2599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left ventricle </a:t>
            </a:r>
            <a:r>
              <a:rPr b="0" lang="en-US" sz="2000" spc="-1" strike="noStrike">
                <a:solidFill>
                  <a:srgbClr val="b50069"/>
                </a:solidFill>
                <a:latin typeface="Book Antiqua"/>
              </a:rPr>
              <a:t>EDV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76080" indent="-2599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blood plasma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12120" indent="-31212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Stroke Volume (fig. 10.3)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76080" indent="-2599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increased</a:t>
            </a:r>
            <a:r>
              <a:rPr b="0" lang="en-US" sz="2000" spc="-1" strike="noStrike">
                <a:solidFill>
                  <a:srgbClr val="b50069"/>
                </a:solidFill>
                <a:latin typeface="Book Antiqua"/>
              </a:rPr>
              <a:t> EDV 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and decreased </a:t>
            </a:r>
            <a:r>
              <a:rPr b="0" lang="en-US" sz="2000" spc="-1" strike="noStrike">
                <a:solidFill>
                  <a:srgbClr val="b50069"/>
                </a:solidFill>
                <a:latin typeface="Book Antiqua"/>
              </a:rPr>
              <a:t>ESV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 = increased </a:t>
            </a:r>
            <a:r>
              <a:rPr b="0" lang="en-US" sz="2000" spc="-1" strike="noStrike">
                <a:solidFill>
                  <a:srgbClr val="b50069"/>
                </a:solidFill>
                <a:latin typeface="Book Antiqua"/>
              </a:rPr>
              <a:t>EF 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76080" indent="-2599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0069"/>
                </a:solidFill>
                <a:latin typeface="Book Antiqua"/>
              </a:rPr>
              <a:t>Frank-Starling law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: elastic recoil of the ventricl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ardiovascular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esting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h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eart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ate 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13160" indent="-2743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increased parasympathetic activity and decreased sympathetic activity.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submaximal heart rat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m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aximum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h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eart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ate of elite athletes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13160" indent="-2743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f your heart rate is too fast the period of ventricular filling is reduced and your stroke volume might be compromised.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713160" indent="-2743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the heart expends less energy by contracting less often but more forcibly than it would by contracting more often.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29040" indent="-3290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Heart Rate Recovery (fig. 10.5)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ardiovascular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Maintained cardiac output at rest and submaximal exercis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4840" indent="-2948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cardiac output during maximal exercis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94840" indent="-2948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blood flow to the muscles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39000" indent="-2455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capillarization of trained muscles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39000" indent="-2455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greater opening of existing capillaries in trained muscles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39000" indent="-2455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more effective blood redistribution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39000" indent="-2455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blood volum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39000" indent="-2455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decreased blood viscosity &amp; increased oxygen delivery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294840" indent="-29484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resting blood pressure, but is unchanged during exercis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39000" indent="-24552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increased blood flow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Cardiovascular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blood volume (blood plasma) and is greater with more intense levels of training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release of antidiuretic hormon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plasma proteins which help retain blood fluid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increased red blood cell volum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decreased blood viscosity 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Respiratory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Respiratory system functioning usually does not limit performance because ventilation can be increased to a greater extent than cardiovascular function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Slight increase in Total lung Capacity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Slight decrease in Residual Lung Volum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dal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V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olume at maximal exercise levels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respiratory rate and pulmonary ventilation at rest and at submaximal exercis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(RR) decreases because of greater pulmonary efficiency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respiratory rate and pulmonary ventilation at maximal exercise levels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increased tidal volum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Respiratory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105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Unchanged pulmonary diffusion at rest and submaximal exercise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pulmonary diffusion during maximal exercise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increased circulation and increased ventilation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more alveoli involved during maximal exercise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A-VO2 difference especially at maximal exercise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65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Metabolic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Lactate threshold occurs at a higher percentage of VO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Max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23880" indent="-23976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a greater ability to clear lactate from the muscles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23880" indent="-23976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an increase in skeletal muscle enzymes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-2880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espiratory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E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xchange </a:t>
            </a:r>
            <a:r>
              <a:rPr b="0" lang="en-US" sz="2400" spc="-1" strike="noStrike">
                <a:solidFill>
                  <a:srgbClr val="b50069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atio (ratio of carbon dioxide released to oxygen consumed)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23880" indent="-23976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a higher utilization of fatty acids instead of carbo’s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lvl="1" marL="623880" indent="-23976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however, the RER increases from the ability to perform at maximum levels of exercise for longer periods of time because of </a:t>
            </a:r>
            <a:r>
              <a:rPr b="0" lang="en-US" sz="2000" spc="-1" strike="noStrike" u="sng">
                <a:solidFill>
                  <a:srgbClr val="280049"/>
                </a:solidFill>
                <a:uFillTx/>
                <a:latin typeface="Book Antiqua"/>
              </a:rPr>
              <a:t>high lactate tolerance</a:t>
            </a: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-2880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creased resting metabolic rat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marL="288000" indent="-28800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Decreased VO</a:t>
            </a:r>
            <a:r>
              <a:rPr b="0" lang="en-US" sz="1800" spc="-1" strike="noStrike">
                <a:solidFill>
                  <a:srgbClr val="280049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 during submaximal exercise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623880" indent="-239760">
              <a:spcBef>
                <a:spcPts val="4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0049"/>
                </a:solidFill>
                <a:latin typeface="Book Antiqua"/>
              </a:rPr>
              <a:t>from a metabolic efficiency and mechanical efficiency</a:t>
            </a:r>
            <a:endParaRPr b="0" lang="en-US" sz="2000" spc="-1" strike="noStrike">
              <a:solidFill>
                <a:srgbClr val="280049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beff"/>
            </a:gs>
            <a:gs pos="50000">
              <a:srgbClr val="fefefe"/>
            </a:gs>
            <a:gs pos="100000">
              <a:srgbClr val="e3b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00093"/>
                </a:solidFill>
                <a:latin typeface="Book Antiqua"/>
              </a:rPr>
              <a:t>Metabolic Adaptations From Aerobic Training</a:t>
            </a:r>
            <a:endParaRPr b="0" i="1" lang="en-US" sz="4400" spc="-1" strike="noStrike">
              <a:solidFill>
                <a:srgbClr val="500093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009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Large increases in VO2 Max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in mature athletes, the highest attainable VO2 Max is reached within 8 to 18 months of heavy endurance training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VO2 Max is influenced by “training” in early childhood.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50009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from increased oxidative enzymes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50009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from increased size and number of mitochondria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50009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from increased blood volume, cardiac output &amp; O2  diffusion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50009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0049"/>
                </a:solidFill>
                <a:latin typeface="Book Antiqua"/>
              </a:rPr>
              <a:t>from increased capillary density</a:t>
            </a:r>
            <a:endParaRPr b="0" lang="en-US" sz="2400" spc="-1" strike="noStrike">
              <a:solidFill>
                <a:srgbClr val="280049"/>
              </a:solidFill>
              <a:latin typeface="Book Antiqu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467480" y="3276720"/>
            <a:ext cx="1676520" cy="183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1T22:36:50Z</dcterms:created>
  <dc:creator>William A. Kauth</dc:creator>
  <dc:description/>
  <dc:language>en-US</dc:language>
  <cp:lastModifiedBy>William A. Kauth</cp:lastModifiedBy>
  <dcterms:modified xsi:type="dcterms:W3CDTF">2002-11-12T09:36:09Z</dcterms:modified>
  <cp:revision>5</cp:revision>
  <dc:subject/>
  <dc:title>Cardiorespiratory Adaptations to Training</dc:title>
</cp:coreProperties>
</file>